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407-C04A-4E20-88B2-9DCFD57F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82C-4F5B-4ACC-88C0-3251C0D0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9F2-59E8-45E2-B635-B2277E1A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68F-D888-4B08-87B4-A514A60F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ED1-A6F9-4DA0-89DB-4F07E415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26E-D113-487E-A9C1-A61BC74B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6D9-3B19-429E-B427-E1EF11DE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E59-DB1F-4D92-941D-9E60279B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3FB-89D8-4FEF-B9DC-E88185C3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9418-F1C7-4D65-811C-8FE86E8D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794-E117-427D-ABF5-3AD341A6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CCC-2691-4126-9929-972FCC3B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2263-58C8-4020-B80D-00477B099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0400" y="3042720"/>
            <a:ext cx="844704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"/>
              </a:rPr>
              <a:t>Low-Power SRAM</a:t>
            </a:r>
            <a:br>
              <a:rPr sz="4800"/>
            </a:br>
            <a:r>
              <a:rPr b="0" lang="en-US" sz="2400" spc="-1" strike="noStrike">
                <a:solidFill>
                  <a:srgbClr val="ffffff"/>
                </a:solidFill>
                <a:latin typeface="Bodoni"/>
              </a:rPr>
              <a:t>ECE 4332 Fall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0120" y="4575240"/>
            <a:ext cx="661968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Team 2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Yanran Ch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Cary Conver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Chenqian G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David Mo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Single Bit ECC, continu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quires significant overhea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l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dditional components require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rity generation/check circuits: X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rection circuit: Inverter, 2:1 Multiplex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3040" y="228600"/>
            <a:ext cx="914400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af0d"/>
                </a:solidFill>
                <a:latin typeface="Bodoni"/>
              </a:rPr>
              <a:t>ECC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9000" y="2361960"/>
            <a:ext cx="448956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Parity Bit Gene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(at writ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ontent Placeholder 6" descr="ECCparity.png"/>
          <p:cNvPicPr/>
          <p:nvPr/>
        </p:nvPicPr>
        <p:blipFill>
          <a:blip r:embed="rId1"/>
          <a:stretch/>
        </p:blipFill>
        <p:spPr>
          <a:xfrm>
            <a:off x="279360" y="3124080"/>
            <a:ext cx="4489560" cy="2324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3280" y="1752480"/>
            <a:ext cx="495324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Parity Checking &amp; Corre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(at read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ontent Placeholder 7" descr="ECCfix.png"/>
          <p:cNvPicPr/>
          <p:nvPr/>
        </p:nvPicPr>
        <p:blipFill>
          <a:blip r:embed="rId2"/>
          <a:stretch/>
        </p:blipFill>
        <p:spPr>
          <a:xfrm>
            <a:off x="5160960" y="2519280"/>
            <a:ext cx="449100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Design Considerat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sure Voltage is high enough to protect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void extreme delay due to low volt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nimize impact of ECC on area, del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mory block divisio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Block Siz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709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deoff between block complexity and top level complex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maller blocks have lower access energy as shown using data from an early mod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dditional blocks require wider output muxes, more complicated distribution of Input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ose to use 16 256x256 blocks - later extended for EC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image (2).png"/>
          <p:cNvPicPr/>
          <p:nvPr/>
        </p:nvPicPr>
        <p:blipFill>
          <a:blip r:embed="rId1"/>
          <a:stretch/>
        </p:blipFill>
        <p:spPr>
          <a:xfrm>
            <a:off x="2565360" y="4191120"/>
            <a:ext cx="518148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Layout/ Notes on topolog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gh Vt bitcells to reduce leakage, and require less cell ratio, pull down ratio </a:t>
            </a:r>
            <a:r>
              <a:rPr b="0" lang="en-US" sz="2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reduced 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locks of memory to decrease WL capacitanc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320840" y="3657600"/>
            <a:ext cx="73054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4-Bitcell Arr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07960" y="2336760"/>
            <a:ext cx="91440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60240" y="4114800"/>
            <a:ext cx="9042480" cy="3016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Block Layout (64kb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203040" y="1752480"/>
            <a:ext cx="9664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l Row Periphery, Column Periphery Comple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rray consumes majority of 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ses metal4 and l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Sour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7680" y="1371600"/>
            <a:ext cx="966456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CE 4332 2009 Group Projects Pages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Va ECE Wik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axiras, S., Zhigang, H., &amp; Martonosi, M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che Decay: Exploit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erational Behavior to Reduce Cache Leakage Pow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national Symposium on Computer Architecture, 2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g, S., Kim, Y. B., &amp; Lombardi, F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Low-Leakage 9T SRAM Cel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Ultra-Low Power Ope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baey, J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gital Integrated Circuits: A Design Perspective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nt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ll, 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yan, J. F., &amp; Calhoun, B. H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imizing Offset for Latching Voltag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de Sense Amplifiers for Sub-Threshold Ope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national Symposium on Quality Electronic Design,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ang, A., Calhoun, B. H., &amp; Chandrakasan, A. P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-Threshold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gn for Ultra Low-Power Syste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Springer,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Metri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tric = (Active Energy per Access)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*Delay*Area*IdleP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ctive Energy per Access = 9.704 fJ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lay = 7.186 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rea = ~1.2 mm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dle Power = 57.78 u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Our Metric = 4.692e-41 J</a:t>
            </a:r>
            <a:r>
              <a:rPr b="1" i="1" lang="en-US" sz="29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*s*mm</a:t>
            </a:r>
            <a:r>
              <a:rPr b="1" i="1" lang="en-US" sz="29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*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Metric Breakdown Valu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9120" y="1831680"/>
            <a:ext cx="9661680" cy="56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 Bitcell Area = 0.649 um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ad Energy = 9.678 fJ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rite Energy = 9.834 fJ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ad Delay = 7.186 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rite Delay = 6.491 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dle Power = 57.71 uW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th 0.3 V VDD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sleep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=&gt; 0.483 u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Full SRAM Diagra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422360" y="1752480"/>
            <a:ext cx="72486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Memory Block Diagra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1951200"/>
            <a:ext cx="1015992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Special Features Overvi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Latching Voltage Sense Amplifi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Low Voltage (w/ sleep mod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ngle Bit Error Correcting Cod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Latching Voltage Sense Amplifie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80" y="1819080"/>
            <a:ext cx="3708720" cy="54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nimizes BL sagging to reduce the energy/rea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lows faster rea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860640" y="2133720"/>
            <a:ext cx="6134400" cy="40384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4514760" y="6299280"/>
            <a:ext cx="4481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odified from Ryan &amp; Calhoun, 200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Low Volt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ta Retention Voltag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0.6 V for active ope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0.3 V for sleep mo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LD butterfly plots at l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oltages indicate data c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 retained when sleep volt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as low as 0.3 V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299280" y="1015920"/>
            <a:ext cx="3517920" cy="6108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327640" y="1117440"/>
            <a:ext cx="109368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Sleep VD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0.35v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0.30v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0.25v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Single Bit Error Correcting Cod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7360"/>
            <a:ext cx="9664560" cy="54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portanc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ensate for smaller SNMs due to lower volt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intaining important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amming Cod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6 Parity B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2 Data B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lows correction of 1 error per word, detection of 2 errors per wor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ces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termine parity bits at Wri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rect word at Rea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crc4m</cp:lastModifiedBy>
  <dcterms:modified xsi:type="dcterms:W3CDTF">2010-12-07T13:36:51Z</dcterms:modified>
  <cp:revision>21</cp:revision>
  <dc:subject/>
  <dc:title>PowerPoint Presentation</dc:title>
</cp:coreProperties>
</file>